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45885"/>
        <c:axId val="35386516"/>
      </c:barChart>
      <c:catAx>
        <c:axId val="12645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86516"/>
        <c:crosses val="autoZero"/>
        <c:auto val="1"/>
        <c:lblAlgn val="ctr"/>
        <c:lblOffset val="100"/>
        <c:noMultiLvlLbl val="0"/>
      </c:catAx>
      <c:valAx>
        <c:axId val="35386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45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649-68AA-40B4-961F-EC41B7E4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260-00DB-455C-97F1-284B6971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89B7-259D-46CB-BF7A-BBE5EDFE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8BD-9E38-47BC-825F-E7FA4320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A2B-7805-4B9E-854E-221F5CD5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436-F03C-494A-80D0-2717AAA9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5E1-D2D8-429E-A2D8-5949CE01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BD1-753D-4D4C-94AA-2DF147B7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AA4-60BD-44F6-A8F1-84FE70A0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BF1C-B812-4ED6-8F19-0EED5A3F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B1A-2BBE-4048-BBA8-772AA845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05C-922E-4900-A09A-A6035366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11AF8-4B4F-4731-AA54-9EBD5CC25E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