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92882"/>
        <c:axId val="6513337"/>
      </c:barChart>
      <c:catAx>
        <c:axId val="110928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3337"/>
        <c:crosses val="autoZero"/>
        <c:auto val="1"/>
        <c:lblAlgn val="ctr"/>
        <c:lblOffset val="100"/>
        <c:noMultiLvlLbl val="0"/>
      </c:catAx>
      <c:valAx>
        <c:axId val="65133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928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28CB-FD35-41E3-AE69-73009724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DB6E-7030-4B83-B6E4-F8C5A60B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6765-03F3-4B46-B419-EA5064C0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4C61-04C5-4E68-960A-236DB7B8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4C4D-938B-4FB8-A9FC-D49EDB0B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079-8843-4326-A7F0-F03B0A2A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5B4-3D25-43E1-80A8-E498F463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D6CB-9F6A-46F4-BB23-4FFD6AB3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B12-0AB6-432F-BE6E-1598841A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E86-0C74-490B-9099-CB4AE61D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5D9-8732-4AF6-9482-A6674E45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A6EC-0217-4CB5-9D53-55E8804E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03D48-AD8B-4CA0-91D4-C2AE87A9A1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