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14300"/>
        <c:axId val="78508179"/>
      </c:barChart>
      <c:catAx>
        <c:axId val="62814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08179"/>
        <c:crosses val="autoZero"/>
        <c:auto val="1"/>
        <c:lblAlgn val="ctr"/>
        <c:lblOffset val="100"/>
        <c:noMultiLvlLbl val="0"/>
      </c:catAx>
      <c:valAx>
        <c:axId val="78508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14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DAB-E417-4887-8C71-4C871112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5C6-DFBF-4AB7-8EEE-67499490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E83-2942-4C83-B50D-80F2F3D9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A17-AB33-4A30-AAA7-D01A97DE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BAE-C981-4EFE-815B-7F4CDA80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5B3-5615-413D-A447-66D21B9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823-E186-4F2F-8CB7-0C55EFBC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1CC-9130-4465-9A63-7F74BB40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D40-8C8F-45BF-AE54-E9BF9886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975-BB12-4D65-9332-2F67184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F97-73AC-40BD-825C-D3E3F067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89D-96B3-4B3F-B843-6FAABB66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1A448-D7E4-47B2-A52F-20369B9A5B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