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9503"/>
        <c:axId val="71184425"/>
      </c:barChart>
      <c:catAx>
        <c:axId val="38295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84425"/>
        <c:crosses val="autoZero"/>
        <c:auto val="1"/>
        <c:lblAlgn val="ctr"/>
        <c:lblOffset val="100"/>
        <c:noMultiLvlLbl val="0"/>
      </c:catAx>
      <c:valAx>
        <c:axId val="711844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95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6F4E-573D-4EBF-B8C0-D0CDEF93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D875-40F2-49FF-8B79-7406DF29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14D1-E8FE-407D-AEDC-06FE9999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CC71-1266-455D-A417-877B7C91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9A0B-B914-41CB-B020-11B3D5DA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8E4B-0A2A-4F65-A533-609C435C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177A-2960-46C6-993C-36247E0A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891-B2BD-47FE-B8E9-9FA17C02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E26F-D39D-4BB5-A167-B00793CA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03DA-3126-43E8-9A25-9449A017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C9ED-F95E-41CC-BDC7-F256C3CE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555A-024A-4B8C-A39F-F1D785B3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438CF-A1DF-43C1-918D-0006D66009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