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48095"/>
        <c:axId val="4654609"/>
      </c:barChart>
      <c:catAx>
        <c:axId val="28848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4609"/>
        <c:crosses val="autoZero"/>
        <c:auto val="1"/>
        <c:lblAlgn val="ctr"/>
        <c:lblOffset val="100"/>
        <c:noMultiLvlLbl val="0"/>
      </c:catAx>
      <c:valAx>
        <c:axId val="4654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48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CA6-6C0D-464F-A390-DAB5D96C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62F-6992-4645-BE25-73B0E59B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DFE-6CA6-4BC0-9624-2B9848A4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280-4918-4400-924B-5C511FF5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D83-F99E-4E12-889A-A6677BF8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3EB-0613-4B80-A769-C0277539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15C-03CF-4CC3-80E4-08DE9FB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3D4-B375-4F29-8882-1B3A097B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9A0-C797-427B-9760-FC5906F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135-B290-4E87-8B81-A5EFC9A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BBE-949F-4F5F-82B3-93DDC71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32-DC7A-4236-8AC2-ECC6FAF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A706-C324-4636-AAE0-5BA662B29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