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848441"/>
        <c:axId val="45193720"/>
      </c:barChart>
      <c:catAx>
        <c:axId val="948484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193720"/>
        <c:crosses val="autoZero"/>
        <c:auto val="1"/>
        <c:lblAlgn val="ctr"/>
        <c:lblOffset val="100"/>
        <c:noMultiLvlLbl val="0"/>
      </c:catAx>
      <c:valAx>
        <c:axId val="451937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8484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A8C2-569F-422A-8CF7-EBA9AF620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9C08-EAE3-470F-B6FC-97405E546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27A0-4861-4925-BFE8-801A8C55C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579E-FC45-4A45-8AAF-9339C1045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E63D-A10B-48F0-97F7-3716ACD26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5C73-5D3A-4872-B031-F68165B5E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61FE-CEB4-41FC-B0CC-05B1245A0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5AA9-ECCF-4786-AB4A-D40B6E87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4CAB-28B1-4218-9F43-A612CB52D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5989-7F4D-4613-B0E4-268A61A0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46E5-5A32-41D5-A2C2-29F62B58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DDE2-EFCA-4765-884A-1D1B033A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7B44D8-D43E-4807-9F8D-3EB885E8625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