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19300"/>
        <c:axId val="63597367"/>
      </c:barChart>
      <c:catAx>
        <c:axId val="78519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7367"/>
        <c:crosses val="autoZero"/>
        <c:auto val="1"/>
        <c:lblAlgn val="ctr"/>
        <c:lblOffset val="100"/>
        <c:noMultiLvlLbl val="0"/>
      </c:catAx>
      <c:valAx>
        <c:axId val="63597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9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4AE-B412-4972-93B2-BDBE2804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0F8-68B9-4D1A-A48C-F96D3AE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333-CC03-4EF3-A9D5-1765CBEE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410-0D59-4406-87DB-6E0BA7B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590-60E8-4690-8AC4-31185C4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6D0-08C4-41ED-BB6F-D291202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B81-0020-4426-9547-5C8EE55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472-1528-4D5B-BB34-A6984E26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33E-5D7F-45DA-91D6-8D8D3AE6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9A7-0F4D-41CF-B4C7-06F5DE7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179-B701-4BE4-B8E3-760CC6B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493-63E7-4F45-9656-46E6EF87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A3B9-8DE1-4DF7-AEBD-7C6EE3860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